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42C-A5AF-468F-AE39-87BB4616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BC8-92E0-41F8-A391-F909E5BA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A64-7672-4638-90ED-904267F7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FB9-A700-4BCC-8C84-2B117AAB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F3A9-3AC1-4187-9908-096A984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16A7-46DD-4B96-877D-77BBF048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0DED-72BA-4EC4-A8F2-9BC623CC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078D-B6B5-4B8F-AB6E-6D6C98C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953B-92D7-499D-9106-D0F11EF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6D73-7D1D-4A31-AA00-C8FC28EB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E08F-6D26-4AF1-9344-46988BD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93C-18B5-4DEA-B822-ED60402D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8ED5-5F95-4CE8-89DA-CB00520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CD91-5F07-4115-B68B-6267CE7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E3A1-A792-4997-9835-C60AB812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AACB-B130-4857-88D9-8B21B163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A960-686A-4A7A-B0BF-97673F2D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25B-49B0-4DE5-8428-B3B4111F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101-7E1C-41B7-BB49-53F3D2B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678-DAB0-4051-A4F3-513481B2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B46-A57A-4D08-8AAF-BB46EFFE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659-C602-4C00-A464-E2FE15D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5DB-144C-4F05-BB3B-396C469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920-A2F3-4F33-9C18-60755180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90C-84F4-416B-B9C0-C6E91BE12F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909F-DF4C-4D54-8540-37B54A2E53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Arial Black"/>
              </a:rPr>
              <a:t>Женское курение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S Mincho"/>
              </a:rPr>
              <a:t>Исследования последних десятилети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824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в 1975 г. курили 52,3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в 1978 г.  - 54,7% берем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При установлении беременности перестали 6,6 и 8,2%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Прекратили кур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на 1-м месяце беременности 39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на 2-м месяце - 16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на 3-м месяце - 1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Через 6 месяцев после родов из тех, кто перестал курить, снова курили.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Подумай о его будущем, подумай о нем!"/>
          <p:cNvPicPr/>
          <p:nvPr/>
        </p:nvPicPr>
        <p:blipFill>
          <a:blip r:embed="rId1"/>
          <a:stretch/>
        </p:blipFill>
        <p:spPr>
          <a:xfrm>
            <a:off x="5219640" y="2349360"/>
            <a:ext cx="3673440" cy="326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S Mincho"/>
              </a:rPr>
              <a:t>Практически во всех странах мира выраженный рост числа курящих женщин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2517840" cy="395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572000" y="2276640"/>
          <a:ext cx="4321080" cy="4078080"/>
        </p:xfrm>
        <a:graphic>
          <a:graphicData uri="http://schemas.openxmlformats.org/drawingml/2006/table">
            <a:tbl>
              <a:tblPr/>
              <a:tblGrid>
                <a:gridCol w="1341360"/>
                <a:gridCol w="1395360"/>
                <a:gridCol w="15843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Курящих женщ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Продолжали курить во врем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1.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52-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20-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2.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3.Австр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Century Gothic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MS Mincho"/>
              </a:rPr>
              <a:t>У детей курящих матерей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281800" cy="48243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entury Gothic"/>
              </a:rPr>
              <a:t>Увеличивается частота бронхитов и пневм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entury Gothic"/>
              </a:rPr>
              <a:t>Табачный дым задерживает солнечные ультрафиолетовые лучи, которые важны для растущего ребёнка, влияет на обмен веществ, ухудшает растворяемость сахара и витамина С, необходимый ребёнку в период р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entury Gothic"/>
              </a:rPr>
              <a:t>Нарушается функция лёгких в возрасте 5-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entury Gothic"/>
              </a:rPr>
              <a:t>Снижение способностей к физической деятельности, требующей выносливость и на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entury Gothic"/>
              </a:rPr>
              <a:t>Отстают от своих сверстников в умственном разви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39640" cy="112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35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3300"/>
                </a:solidFill>
                <a:latin typeface="MS Mincho"/>
              </a:rPr>
              <a:t>Важно знать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97320" y="2017800"/>
            <a:ext cx="2886120" cy="3473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1498680"/>
            <a:ext cx="360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Рост табакокурения среди женщин называют трагедией человечества, поскольку потребление табака оказывает не только пагубное влияние на более чувствительный к токсическому и канцерогенному воздействию женский организм, но и отрицательно сказывается на здоровье будущих поко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3382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Согласно данным Всемирной организации здравоохранения, сегодня около 12% женщин во всём мире курят.</a:t>
            </a:r>
            <a:r>
              <a:rPr b="1" lang="en-US" sz="29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a_graf010" descr=""/>
          <p:cNvPicPr/>
          <p:nvPr/>
        </p:nvPicPr>
        <p:blipFill>
          <a:blip r:embed="rId1"/>
          <a:stretch/>
        </p:blipFill>
        <p:spPr>
          <a:xfrm>
            <a:off x="4356000" y="227664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 rot="10800000">
            <a:off x="821880" y="124200"/>
            <a:ext cx="74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MS Mincho"/>
                <a:ea typeface="Times New Roman"/>
              </a:rPr>
              <a:t>Динамика распространенности курения в популяции женщин в возрасте 20–59 лет</a:t>
            </a:r>
            <a:r>
              <a:rPr b="1" lang="en-US" sz="2800" spc="-1" strike="noStrike">
                <a:solidFill>
                  <a:srgbClr val="5f5f5f"/>
                </a:solidFill>
                <a:latin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58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S Mincho"/>
              </a:rPr>
              <a:t>Восемь лет жизни и молодость - в подарок.</a:t>
            </a:r>
            <a:br>
              <a:rPr sz="3200"/>
            </a:br>
            <a:r>
              <a:rPr b="0" lang="en-US" sz="3800" spc="-1" strike="noStrike">
                <a:solidFill>
                  <a:srgbClr val="663300"/>
                </a:solidFill>
                <a:latin typeface="Times New Roman"/>
              </a:rPr>
              <a:t>    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95640" y="2492280"/>
            <a:ext cx="46087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Хотите подарить себе 8 лет жизни, бросьте курить. Именно настолько дольше по сравнению с курильщиками живут те, кто не имеет этой привы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266544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905440" cy="1224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988640"/>
            <a:ext cx="73292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5f5f5f"/>
                </a:solidFill>
                <a:latin typeface="Century Gothic"/>
              </a:rPr>
              <a:t>Исследование, проведенное ВОЗ (1982), показало, что в 70-е годы кур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2708280"/>
          <a:ext cx="8569440" cy="36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708280"/>
                    <a:ext cx="8569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59770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S Mincho"/>
              </a:rPr>
              <a:t>Великобрита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4026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Средний возраст начала ку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у мальчиков - 9,7 года, у девочек - 11,2 го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В результате трех последовательных национальных исследований по проблеме развития детей установлено, что среди 16-летних мальчиков доля курящих составила 37,5%, среди девочек - 35,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Число курильщиков за исследуемый период среди мальчиков уменьшилась с 16 до 13%, а среди девочек увеличилась с 13 до 14%, причем среди девочек по сравнению с мальчиками доля курящих во всех возрастных группах вы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366560" cy="128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266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MS Mincho"/>
              </a:rPr>
              <a:t>СШ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В настоящее время курят 10% юношей и 12% девуш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в 1970 г. регулярно курили уже 15,7% мальчиков и 15,3% девоч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в 1970-1974 гг. наблюдалось увеличение доли курящих девочек и снижение доли курящих мальчиков, а в 1979 г. произошло снижение доли курящих мальчиков и девочек в возрасте 12-16 лет, однако доля курящих девушек в возрасте 17-18 лет продолжает р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entury Gothic"/>
              </a:rPr>
              <a:t>Мальчики, как правило, начинают курить раньше девочек. Так, среди 14-15-летних мальчиков курильщики составляют 32%. Девочки в основном систематически начинают курить в возрасте 16-17 лет (14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656000" cy="126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69720" y="1844640"/>
            <a:ext cx="3809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5554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644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3300"/>
                </a:solidFill>
                <a:latin typeface="MS Mincho"/>
              </a:rPr>
              <a:t>Причины отказа от курения: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a_graf016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99128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040360" cy="4464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273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MS Mincho"/>
              </a:rPr>
              <a:t>Курение во время беременност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9448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5554"/>
                </a:solidFill>
                <a:latin typeface="Century Gothic"/>
              </a:rPr>
              <a:t>Дети женщин, куривших во время беременности, на треть чаще, чем все остальные, рискуют к 16 годам заполучить диабет или ожи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8000" y="1700280"/>
            <a:ext cx="4176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5554"/>
                </a:solidFill>
                <a:latin typeface="Century Gothic"/>
              </a:rPr>
              <a:t>Дети матерей, куривших во время беременности, в несколько раз чаще сами начинают курить, чем дети, чьи матери во время беременности не кур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4:42:14Z</dcterms:created>
  <dc:creator>Арина</dc:creator>
  <dc:description/>
  <dc:language>en-US</dc:language>
  <cp:lastModifiedBy>Малышев</cp:lastModifiedBy>
  <dcterms:modified xsi:type="dcterms:W3CDTF">2009-03-15T14:28:15Z</dcterms:modified>
  <cp:revision>5</cp:revision>
  <dc:subject/>
  <dc:title>Курение во время  беременности</dc:title>
</cp:coreProperties>
</file>